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56678"/>
        <c:axId val="47440022"/>
      </c:barChart>
      <c:catAx>
        <c:axId val="66656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40022"/>
        <c:crosses val="autoZero"/>
        <c:auto val="1"/>
        <c:lblAlgn val="ctr"/>
        <c:lblOffset val="100"/>
        <c:noMultiLvlLbl val="0"/>
      </c:catAx>
      <c:valAx>
        <c:axId val="47440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6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A98-8514-4C6E-AB62-C53C0744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EF6-0A7B-4DCB-8375-3DC4564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787-8556-4DB4-B832-51A16038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189-3624-4C92-B162-7F474426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0E4-E3C7-4D66-914E-171C5D4F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A4D-38CC-4407-B663-9F1229C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646-4F7E-4F0B-B013-2B981C5E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508-FE21-4E2E-A4C7-BE418C8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F92-3B45-4881-8377-BD3AA723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897-747F-4B27-8A37-02F9F13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40F-38C9-479F-8199-2B19306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CD2-63B8-4577-B0D9-565285F7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5EDFC-4020-4C3F-B7E3-3FE9917F7B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