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28466"/>
        <c:axId val="70945473"/>
      </c:barChart>
      <c:catAx>
        <c:axId val="27228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45473"/>
        <c:crosses val="autoZero"/>
        <c:auto val="1"/>
        <c:lblAlgn val="ctr"/>
        <c:lblOffset val="100"/>
        <c:noMultiLvlLbl val="0"/>
      </c:catAx>
      <c:valAx>
        <c:axId val="70945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28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ADF-CFFA-48AF-98AC-170111F3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882-76DB-4B7E-89A1-EA6BB6BC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B85-6656-41A9-ABB5-42998C6A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36E-E748-4F77-A3F8-58BB8A6D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1A0-B649-4548-A6FA-E77BE54C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DB4-D216-46D4-BFC5-6F7EEDC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F8F-D5E5-4311-8A00-74796471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C61-E7A6-41A7-9C4C-936ADCF2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98E-AD60-45AB-9568-D639BC3E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A21-6E34-4492-8F7F-DB42FC6D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F14-B35D-428A-981F-FEC8657E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EB3-B845-4F7E-9808-0C8191D5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0EC1F-E6EA-434C-A129-5C84450EB2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