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4012"/>
        <c:axId val="57676286"/>
      </c:barChart>
      <c:catAx>
        <c:axId val="8414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76286"/>
        <c:crosses val="autoZero"/>
        <c:auto val="1"/>
        <c:lblAlgn val="ctr"/>
        <c:lblOffset val="100"/>
        <c:noMultiLvlLbl val="0"/>
      </c:catAx>
      <c:valAx>
        <c:axId val="57676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4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DA4-9D37-4890-A22F-07DCD026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74E-FC78-42DE-87F2-0BC401C5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0E0-31DD-4B24-B609-9D19F787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883-9015-4F5D-8FEA-34E28FD1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B84-F52B-43BD-BE40-74079F47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E01-97A4-4E4E-8C52-968E911E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1C3B-329F-4F7C-8EEA-F0D5299D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153-63B3-4313-AD7F-5F297248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E0C-A095-46C6-9DF1-1FDA41F1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E5C-ADFD-4E1F-8D8F-10DCE935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FC51-5C04-4CF6-AB06-66C9F64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7CE-736C-49FD-99E9-EF50A0B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ADCE6-E073-4AC2-98C7-764334DD2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