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666653"/>
        <c:axId val="68818469"/>
      </c:barChart>
      <c:catAx>
        <c:axId val="496666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18469"/>
        <c:crosses val="autoZero"/>
        <c:auto val="1"/>
        <c:lblAlgn val="ctr"/>
        <c:lblOffset val="100"/>
        <c:noMultiLvlLbl val="0"/>
      </c:catAx>
      <c:valAx>
        <c:axId val="688184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666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BF59-A1D1-4F7A-9BC6-6DB53F24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DBA6-887D-442D-BD81-76B66FC4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2C90-B61D-427B-92BC-1C8382B1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D884-D993-4659-B241-ED4F2B26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FF42-B695-4761-8B84-69B86DBF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2104-081D-46A8-8FD3-AF32CA6B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471C-B0AC-419C-9BA0-4334B18F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8FC5-D241-4AD2-908D-091A3291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8B6D-18E0-45E1-88E9-251A06C8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4201-EF53-4A0F-A71F-8EC46876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09D4-09B6-425A-ADC4-1C128E11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E5D-BA57-4DA9-A619-EF6B0878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88FD1-E0B4-489C-896A-AC3D4CE8D4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