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68404"/>
        <c:axId val="5019024"/>
      </c:barChart>
      <c:catAx>
        <c:axId val="36568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9024"/>
        <c:crosses val="autoZero"/>
        <c:auto val="1"/>
        <c:lblAlgn val="ctr"/>
        <c:lblOffset val="100"/>
        <c:noMultiLvlLbl val="0"/>
      </c:catAx>
      <c:valAx>
        <c:axId val="5019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68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FFE-4B05-4A99-AA4F-E8C1548C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D6A-5703-4A90-9F1B-E184D3AD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E7E-5EA1-40C0-A8B2-2A9A3BC1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654-4434-491D-A222-36B4EA55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B7A-1119-4F61-AAF7-99BF4C31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59C-495B-4FAA-B8DF-B388166D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40E-79EA-40DB-8331-7D6D2DA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CCD-F92B-44B7-A24A-B8346465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29C-5B91-4789-85AE-4ABAEE5B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584-391F-44D7-9FDD-3C8EF96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6A4-4313-490D-AC4C-C7BA99D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C52-809A-4717-ABAC-9059094D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77938-552B-4266-9EEF-CE9DA93D79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