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72512"/>
        <c:axId val="76835703"/>
      </c:barChart>
      <c:catAx>
        <c:axId val="20172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35703"/>
        <c:crosses val="autoZero"/>
        <c:auto val="1"/>
        <c:lblAlgn val="ctr"/>
        <c:lblOffset val="100"/>
        <c:noMultiLvlLbl val="0"/>
      </c:catAx>
      <c:valAx>
        <c:axId val="76835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72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B8F-2C3C-4FF7-BFBF-710781CC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9B5-39DD-4EBD-9E16-B0006A5A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F7E-DA10-4056-A668-3CD44785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5B2-01CD-4CC3-A8F5-8CB2586A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B61-0963-4AA1-98E8-86652B24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683-4086-4597-98FF-E0BD7F62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308-8A1D-4614-8768-8C244ABB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E0E-1854-4E44-9A97-97E275B5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D8C-1FE6-432A-9ACA-63F08B5C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284-0E78-4AF5-88E3-79223508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D77-7575-4EF7-A8F6-879306D9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328-F791-4661-86C7-ED944518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72E9A-53D3-42E2-97C2-62A8483913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