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43116"/>
        <c:axId val="97997330"/>
      </c:barChart>
      <c:catAx>
        <c:axId val="23643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97330"/>
        <c:crosses val="autoZero"/>
        <c:auto val="1"/>
        <c:lblAlgn val="ctr"/>
        <c:lblOffset val="100"/>
        <c:noMultiLvlLbl val="0"/>
      </c:catAx>
      <c:valAx>
        <c:axId val="97997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43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75A-ADE9-43BE-85F0-1FEBD698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AE0-9AC9-4F95-B609-46948CB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ECB-54EE-4C04-9642-BC9B5B08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1B4-4DD6-47E1-B934-86F79752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17F-4FE6-4259-B7AD-7CAB44A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232-492C-48DC-90C3-582091D9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9D5-2BC9-452F-8AAB-7AF352A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CC7-E26D-49AE-83CD-C911937F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8BC-3609-4A3E-9135-C4BD20D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A6F-6FAD-4565-8E57-3338D22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DE8-9714-4359-A81F-64B853A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F51-3E13-48D0-BDFC-EF2506C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95CFD-87C3-46BB-A6F8-2845E712A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