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498036"/>
        <c:axId val="96958780"/>
      </c:barChart>
      <c:catAx>
        <c:axId val="144980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958780"/>
        <c:crosses val="autoZero"/>
        <c:auto val="1"/>
        <c:lblAlgn val="ctr"/>
        <c:lblOffset val="100"/>
        <c:noMultiLvlLbl val="0"/>
      </c:catAx>
      <c:valAx>
        <c:axId val="969587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4980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FCDB-71B4-46AC-853B-BD479D041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E366-1EBB-4782-B27D-1E005A74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4E8F-9D15-4298-A115-DA7370296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C170-7C09-41C2-BD64-F299A0FD60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61FF-C8E8-4B33-99F3-C207A7DB8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AEF-04C9-4116-B990-1A0E9CD3A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6D54-B479-4E02-B398-6992C7993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009E-6D4C-4CA5-B54B-9BB198355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CCB5-B94C-42A2-9B5E-64A980A6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DAC1-2451-4B66-97BA-62145303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81B-761D-47A0-B2A8-7EAE1E082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B319-395E-441B-9757-E0801DCD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0415F4-42A6-435C-97D6-9F25D461807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